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13.png" ContentType="image/png"/>
  <Override PartName="/ppt/media/image8.png" ContentType="image/png"/>
  <Override PartName="/ppt/media/image5.gif" ContentType="image/gif"/>
  <Override PartName="/ppt/media/image7.gif" ContentType="image/gif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8531C-48B6-4194-B132-06027A91B4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66C04E4-4FB7-434C-998B-F35DA62C80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1F6E718-4F63-4C9E-A4FC-76DF3A50C0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C2CE054-FCC1-4979-9EB2-E67F01DECB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054540D-6772-4975-AF3E-698B0F0DC7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6D429D3-87A4-4ADF-85D9-E961C8ADB4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E428C0C-078F-4137-91EA-A83D06E513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4D62F6F-1591-4FA0-8E3A-AFB084AEC7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CA706D1-9C79-4908-B102-5A52399E33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BD98-9F77-460C-8699-4E71B32DB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2F38-5977-4F59-92B7-677DB1E0F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7010-78CD-4B42-9FEB-A64289C08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5766-AAE7-4EB7-88B3-ED731D789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6B68-4A61-4060-B830-8C99EBC4B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92F6-3E6B-4988-9CE4-FCAED1889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920E-E34C-4FFC-876C-61AC1D3FB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1EC5-88C2-4226-86DE-0A256BB8C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B6DB-3396-4633-8E6C-A2F09BDD0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E58B-8636-451C-B27A-721DB362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364F-C296-4892-BEC5-5A4DA6CF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A8E4-41B4-4102-94EA-116FE5D1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5E2B4-2BB0-4C1A-A6A5-70F8D82FFB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67616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alibri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66320" y="3352320"/>
            <a:ext cx="7086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University of Bridge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A49B5-08E4-4A36-98F7-86CB0E8CF4B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914400" y="30492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alibri"/>
              </a:rPr>
              <a:t>Introduction to ROBOTICS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-DOF Joi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Universal joi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mbol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F1E3F-7BF4-4E32-A607-A5772B8209A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2666880" y="3095640"/>
            <a:ext cx="3810240" cy="27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-DOF Joi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ylindrical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joi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mbol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A1C87-405D-4D7E-9274-2FBC39C93A8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untitled"/>
          <p:cNvPicPr/>
          <p:nvPr/>
        </p:nvPicPr>
        <p:blipFill>
          <a:blip r:embed="rId1"/>
          <a:stretch/>
        </p:blipFill>
        <p:spPr>
          <a:xfrm>
            <a:off x="2666880" y="2514600"/>
            <a:ext cx="245772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DOF Joi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ll-and-socket (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pherical joi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ymbol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72FD0-1BF0-44BC-A368-0B8667CBE89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sper"/>
          <p:cNvPicPr/>
          <p:nvPr/>
        </p:nvPicPr>
        <p:blipFill>
          <a:blip r:embed="rId2"/>
          <a:stretch/>
        </p:blipFill>
        <p:spPr>
          <a:xfrm>
            <a:off x="4876920" y="2743200"/>
            <a:ext cx="32652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nipul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C2760-C0B3-4750-B1EA-25151ABCE29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028" descr="manipulator-articulateed"/>
          <p:cNvPicPr/>
          <p:nvPr/>
        </p:nvPicPr>
        <p:blipFill>
          <a:blip r:embed="rId1"/>
          <a:stretch/>
        </p:blipFill>
        <p:spPr>
          <a:xfrm>
            <a:off x="838080" y="4114800"/>
            <a:ext cx="2133720" cy="17654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30" descr="manipulator-cartesian"/>
          <p:cNvPicPr/>
          <p:nvPr/>
        </p:nvPicPr>
        <p:blipFill>
          <a:blip r:embed="rId2"/>
          <a:stretch/>
        </p:blipFill>
        <p:spPr>
          <a:xfrm>
            <a:off x="838080" y="1523880"/>
            <a:ext cx="2028960" cy="19591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31" descr="manipulator-cylindrical"/>
          <p:cNvPicPr/>
          <p:nvPr/>
        </p:nvPicPr>
        <p:blipFill>
          <a:blip r:embed="rId3"/>
          <a:stretch/>
        </p:blipFill>
        <p:spPr>
          <a:xfrm>
            <a:off x="3352680" y="1523880"/>
            <a:ext cx="2286000" cy="1820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32" descr="manipulator-spherical"/>
          <p:cNvPicPr/>
          <p:nvPr/>
        </p:nvPicPr>
        <p:blipFill>
          <a:blip r:embed="rId4"/>
          <a:stretch/>
        </p:blipFill>
        <p:spPr>
          <a:xfrm>
            <a:off x="6172200" y="1295280"/>
            <a:ext cx="2057400" cy="2005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33" descr="manipulator-SCARA"/>
          <p:cNvPicPr/>
          <p:nvPr/>
        </p:nvPicPr>
        <p:blipFill>
          <a:blip r:embed="rId5"/>
          <a:stretch/>
        </p:blipFill>
        <p:spPr>
          <a:xfrm>
            <a:off x="3200400" y="3886200"/>
            <a:ext cx="2438280" cy="16905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034"/>
          <p:cNvSpPr/>
          <p:nvPr/>
        </p:nvSpPr>
        <p:spPr>
          <a:xfrm>
            <a:off x="838080" y="34290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rtesian: P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35"/>
          <p:cNvSpPr/>
          <p:nvPr/>
        </p:nvSpPr>
        <p:spPr>
          <a:xfrm>
            <a:off x="3581280" y="34290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ylindrical: R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36"/>
          <p:cNvSpPr/>
          <p:nvPr/>
        </p:nvSpPr>
        <p:spPr>
          <a:xfrm>
            <a:off x="6248520" y="34290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herical: R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37"/>
          <p:cNvSpPr/>
          <p:nvPr/>
        </p:nvSpPr>
        <p:spPr>
          <a:xfrm>
            <a:off x="3200400" y="5638680"/>
            <a:ext cx="2362320" cy="9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Selective Compliance Assembly Robot Ar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38"/>
          <p:cNvSpPr/>
          <p:nvPr/>
        </p:nvSpPr>
        <p:spPr>
          <a:xfrm>
            <a:off x="762120" y="59436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rticulated: R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039" descr="manipulator-tool"/>
          <p:cNvPicPr/>
          <p:nvPr/>
        </p:nvPicPr>
        <p:blipFill>
          <a:blip r:embed="rId6"/>
          <a:stretch/>
        </p:blipFill>
        <p:spPr>
          <a:xfrm>
            <a:off x="6324480" y="3962520"/>
            <a:ext cx="1828800" cy="12826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040"/>
          <p:cNvSpPr/>
          <p:nvPr/>
        </p:nvSpPr>
        <p:spPr>
          <a:xfrm>
            <a:off x="5791320" y="5181480"/>
            <a:ext cx="373356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nd coordina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n: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normal vector;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sliding vector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approach vector, normal to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ool mounting 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figu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configuratio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of the manipulator is a complete specification of the location of every point on the manipulato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f you know the values for th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joint variable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(joint angle for revolute joints or joint offset for prismatic joints), it is straightforward to infer the position of any point on the manipulato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A configuration is represented by a set of values for the joint variabl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object is said to have a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egrees of freedom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(DOF)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its configuration can be minimally specified by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n paramet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a robot manipulator, the number of joints determine the number of DOF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reach any point in the space with an arbitrary orientation: 6 DOF (3 DOF for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osition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3 DOF for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rient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ss than 6 DOF: the arm cant reach any point in the space with an arbitrary orient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e than 6 DOF: Kinematically redundant manipulato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rtain applications may require more than 6 DOF, for exampl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stacle Avoid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ksp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Workspace of the manipulator is the total volume swept out by the end effector as the manipulator executes all possible mo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kspace is constrained b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ometry of the manipulat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chanical constraint of the joints (a revolute joint may be limited to less than 360 degre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video.avi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3692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16504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1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ksp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Reachable Workspace: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he entire set of points reachable by th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ipulat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Dextrous Workspace: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sists of those points that th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ipulator can reach with an arbitrary orientation of the end effecto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Dextrous Workspace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s a subset of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Reachable Workspac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Bo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rk W. Spong, Seth Hutchinso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nd M. Vidyasagar, “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obot Mode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d Control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” ,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iley , 200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SBN-10: 0471649902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SBN-13: 978-0471649908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6095880" y="1676520"/>
            <a:ext cx="275112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formance Meas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ccurac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is a measure of how close the manipulator can come to a given point within its workspa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peat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is a measure of how close the manipulator can return to a previously taught poi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rist and End Effec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st: the joints between the arm and the end effect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ypically, the arm controls the position of the end effector, and the wrist controls the orientatio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 DOF wri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typical wrist would have 3 DOF described as roll, pitch and yaw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oll 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tation around the arm axi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itch 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p and down movement (assuming the roll is in its centre position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Yaw 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ight to left rotation (assuming the roll is in its centre posi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3" descr="wrist.jpg"/>
          <p:cNvPicPr/>
          <p:nvPr/>
        </p:nvPicPr>
        <p:blipFill>
          <a:blip r:embed="rId1"/>
          <a:stretch/>
        </p:blipFill>
        <p:spPr>
          <a:xfrm>
            <a:off x="3200400" y="4114800"/>
            <a:ext cx="50007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d Effec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device on the end of the arm, attached via the wrist, that performs the task, such 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ippers 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to hold and move objec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ools 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to perform work on a part, not just to pick it up. A tool could be held by a gripper, making the system more flexibl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D:\Documents and Settings\Ayssam\Desktop\gripper-t.gif"/>
          <p:cNvPicPr/>
          <p:nvPr/>
        </p:nvPicPr>
        <p:blipFill>
          <a:blip r:embed="rId1"/>
          <a:stretch/>
        </p:blipFill>
        <p:spPr>
          <a:xfrm>
            <a:off x="4038480" y="4762440"/>
            <a:ext cx="381024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fer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bo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. Craig, Introduction to Robotics: Mechanics and Control,” 2nd edition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ISBN: 0-201-52539-9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ics Cover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form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Kinema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nverse kinema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Jacobi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rajectory gene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obot contr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Calibri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Calibri"/>
              </a:rPr>
              <a:t>Robot</a:t>
            </a:r>
            <a:r>
              <a:rPr b="0" lang="en-CA" sz="3600" spc="-1" strike="noStrike">
                <a:solidFill>
                  <a:srgbClr val="000000"/>
                </a:solidFill>
                <a:latin typeface="Calibri"/>
              </a:rPr>
              <a:t> –A reprogrammable manipulator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to perform specific mechanical functions such as move material and par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Calibri"/>
              </a:rPr>
              <a:t>Robotics</a:t>
            </a:r>
            <a:r>
              <a:rPr b="0" lang="en-CA" sz="36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 science dealing with design, construction and operation of rob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nipul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bot manipulators are composed of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ink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nected by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join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7" descr="1400"/>
          <p:cNvPicPr/>
          <p:nvPr/>
        </p:nvPicPr>
        <p:blipFill>
          <a:blip r:embed="rId1"/>
          <a:stretch/>
        </p:blipFill>
        <p:spPr>
          <a:xfrm>
            <a:off x="990720" y="2895480"/>
            <a:ext cx="2396880" cy="3429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photo"/>
          <p:cNvPicPr/>
          <p:nvPr/>
        </p:nvPicPr>
        <p:blipFill>
          <a:blip r:embed="rId2"/>
          <a:stretch/>
        </p:blipFill>
        <p:spPr>
          <a:xfrm>
            <a:off x="4419720" y="2819520"/>
            <a:ext cx="4114800" cy="34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joint is the connection between two or more links at their nod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constrains the motions of the connected link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joint can be classified a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e-DOF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wo-DOF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ree-DO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82578-3254-4C5D-AF01-F131BDB13D5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e-DOF Joi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Revolute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j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oses a rotational mo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ymbol 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2D685-53C7-4925-878C-6FC69BDA30F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1371600" y="2971800"/>
            <a:ext cx="4457880" cy="2724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Prismatic Joint"/>
          <p:cNvPicPr/>
          <p:nvPr/>
        </p:nvPicPr>
        <p:blipFill>
          <a:blip r:embed="rId2"/>
          <a:stretch/>
        </p:blipFill>
        <p:spPr>
          <a:xfrm>
            <a:off x="6019920" y="312408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e-DOF Joi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Prismatic joi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oses a translational mo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ymbol: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BED53-3BD4-4B6E-B944-F96B4196EB8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"/>
          <p:cNvPicPr/>
          <p:nvPr/>
        </p:nvPicPr>
        <p:blipFill>
          <a:blip r:embed="rId1"/>
          <a:stretch/>
        </p:blipFill>
        <p:spPr>
          <a:xfrm>
            <a:off x="1752480" y="3276720"/>
            <a:ext cx="2176560" cy="2392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Prismatic Joint"/>
          <p:cNvPicPr/>
          <p:nvPr/>
        </p:nvPicPr>
        <p:blipFill>
          <a:blip r:embed="rId2"/>
          <a:stretch/>
        </p:blipFill>
        <p:spPr>
          <a:xfrm rot="16200000">
            <a:off x="5324400" y="2828880"/>
            <a:ext cx="2286000" cy="2914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yssam</cp:lastModifiedBy>
  <dcterms:modified xsi:type="dcterms:W3CDTF">2009-09-03T03:16:23Z</dcterms:modified>
  <cp:revision>62</cp:revision>
  <dc:subject/>
  <dc:title>Slide 1</dc:title>
</cp:coreProperties>
</file>